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F33-EF74-4F9D-A5B7-35454676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7DF-8BD2-4864-9675-4B0EB797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E92-5A20-4D76-BEB6-26A28B92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1B2-20AE-4715-AF99-16576088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28D-880E-4460-9780-2F8E2065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20F-86D1-4036-9713-F41DCC20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5A7-FCFF-4D29-8462-8AA96D33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338-3CF6-4418-8081-688C353E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D5AC-BD8B-4F25-A060-64D6FE8B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788-2249-4173-B54A-61F76F9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683-0DFA-48A3-914C-012B75A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165-FC47-47D3-A8E0-A7860A68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B0859-DAA5-4368-AE26-0A1F7F589A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45044-C9A3-4463-9293-5367BD6C2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200" spc="-1" strike="noStrike">
                <a:solidFill>
                  <a:srgbClr val="dd5807"/>
                </a:solidFill>
                <a:latin typeface="Calibri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861480"/>
            <a:ext cx="822960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PBL Sample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Survey of identification procedures and program offer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Updates for PAIU Gifted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SAS Portal Ad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SAS Learning Commu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Tracking Gifted Student Academic Growth in P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Professional Development Plans and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Rubric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Discussion of Susan Winebrenner arti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dd5807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fr-CA" sz="2000" spc="-1" strike="noStrike">
                <a:solidFill>
                  <a:srgbClr val="dd5807"/>
                </a:solidFill>
                <a:latin typeface="Calibri"/>
              </a:rPr>
              <a:t>Gifted Students Need an Education, To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World Leadership Forum Nomin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Wiki up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dd5807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2000" spc="-1" strike="noStrike">
                <a:solidFill>
                  <a:srgbClr val="dd5807"/>
                </a:solidFill>
                <a:latin typeface="Calibri"/>
              </a:rPr>
              <a:t>Needs/ Concerns/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56:26Z</dcterms:created>
  <dc:creator>CCIU</dc:creator>
  <dc:description/>
  <dc:language>en-US</dc:language>
  <cp:lastModifiedBy>CCIU</cp:lastModifiedBy>
  <dcterms:modified xsi:type="dcterms:W3CDTF">2010-10-13T15:01:39Z</dcterms:modified>
  <cp:revision>1</cp:revision>
  <dc:subject/>
  <dc:title>Agenda</dc:title>
</cp:coreProperties>
</file>